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gif" ContentType="image/gif"/>
  <Override PartName="/ppt/media/image19.gif" ContentType="image/gif"/>
  <Override PartName="/ppt/media/image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8.wmf" ContentType="image/x-wmf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155541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C652-C6D1-4582-86C7-0D02BB1B2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7440" y="396432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AE73-78B0-480C-89BD-026BE4EF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072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84FE-5A7E-4FC9-9AC6-2E89B8A85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428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11120" y="160020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744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428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611120" y="3964320"/>
            <a:ext cx="3349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885E-7397-45CB-8D37-9803D7540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EEAD-6C49-4675-975D-32BF496C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052A-8FFD-4BED-BE59-FE3D7897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9E58-AFF1-4F7E-8355-7E4CAC24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BB87-2A37-4760-9BF1-E3399F45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7440" y="274320"/>
            <a:ext cx="10401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2C38-BEEB-4B1C-B894-6CDE6835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D8C2-55ED-4B49-8083-07B54E94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07240" y="396432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DBEE-4427-440B-831F-6E99D7D3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07240" y="1600200"/>
            <a:ext cx="507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7440" y="3964320"/>
            <a:ext cx="1040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AA69-1C2A-42DA-9053-14D2F363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7800" y="6244920"/>
            <a:ext cx="2697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47760" y="6244920"/>
            <a:ext cx="3660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82160" y="6244920"/>
            <a:ext cx="2697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10A4-03F4-4FBA-A56D-42BA0B0AE3F4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bf1"/>
              </a:solidFill>
              <a:latin typeface="Arial"/>
              <a:ea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43" name="Picture 7" descr="截图00"/>
          <p:cNvPicPr/>
          <p:nvPr/>
        </p:nvPicPr>
        <p:blipFill>
          <a:blip r:embed="rId1"/>
          <a:stretch/>
        </p:blipFill>
        <p:spPr>
          <a:xfrm>
            <a:off x="0" y="12600"/>
            <a:ext cx="11557080" cy="6845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1401411111355338"/>
          <p:cNvPicPr/>
          <p:nvPr/>
        </p:nvPicPr>
        <p:blipFill>
          <a:blip r:embed="rId2"/>
          <a:stretch/>
        </p:blipFill>
        <p:spPr>
          <a:xfrm>
            <a:off x="1025640" y="620640"/>
            <a:ext cx="11023560" cy="12445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9"/>
          <p:cNvSpPr/>
          <p:nvPr/>
        </p:nvSpPr>
        <p:spPr>
          <a:xfrm>
            <a:off x="3041640" y="2421000"/>
            <a:ext cx="6337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1746360" y="4362480"/>
            <a:ext cx="29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背景音乐 儿童歌曲 端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http3501.wav" descr=""/>
          <p:cNvPicPr/>
          <p:nvPr/>
        </p:nvPicPr>
        <p:blipFill>
          <a:blip r:embed="rId3"/>
          <a:stretch/>
        </p:blipFill>
        <p:spPr>
          <a:xfrm>
            <a:off x="562608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dissolv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0"/>
            <a:ext cx="11557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882720" y="4653000"/>
            <a:ext cx="98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涂洒雄黄酒是端午节习俗之一。在端午节，将雄黄掺在酒里制成雄黄酒，甩洒在居室的墙角和床下，具有较强的灭蚊和杀虫作用。由于雄黄能从皮肤吸收，外用亦不宜大面积涂擦，以防中毒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-118,7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-118,7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bf1"/>
              </a:solidFill>
              <a:latin typeface="Arial"/>
              <a:ea typeface="宋体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0"/>
            <a:ext cx="11557080" cy="6858000"/>
            <a:chOff x="0" y="0"/>
            <a:chExt cx="11557080" cy="6858000"/>
          </a:xfrm>
        </p:grpSpPr>
        <p:pic>
          <p:nvPicPr>
            <p:cNvPr id="79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15570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>
              <a:off x="0" y="0"/>
              <a:ext cx="1155708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Text Box 5"/>
          <p:cNvSpPr/>
          <p:nvPr/>
        </p:nvSpPr>
        <p:spPr>
          <a:xfrm>
            <a:off x="3114720" y="3284640"/>
            <a:ext cx="702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喝五加酒</a:t>
            </a:r>
            <a:r>
              <a:rPr b="1" i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i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祛湿避邪</a:t>
            </a:r>
            <a:r>
              <a:rPr b="0" i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　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dissolv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-118,7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-118,7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11557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5057640" y="54936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五月初五采五加，酿五加酒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是民间的习俗。五加即五加皮，气香味苦，五加树皮有奇香，可滋补肝肾壮筋骨。民间认为喝了五加酒，可以避难避邪。五加皮的药用主要为治疝气、腹痛、男子阳痿、小便余沥、女人腰脊痛、两脚疼等。地处潮湿的区域，特别适合在端午节喝五加酒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-118,7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-118,7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bf1"/>
              </a:solidFill>
              <a:latin typeface="Arial"/>
              <a:ea typeface="宋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86" name="Picture 4" descr="imagesCA8ERIQU"/>
          <p:cNvPicPr/>
          <p:nvPr/>
        </p:nvPicPr>
        <p:blipFill>
          <a:blip r:embed="rId1"/>
          <a:stretch/>
        </p:blipFill>
        <p:spPr>
          <a:xfrm>
            <a:off x="0" y="0"/>
            <a:ext cx="11557080" cy="6862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2825640" y="3132000"/>
            <a:ext cx="621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挂香囊</a:t>
            </a:r>
            <a:r>
              <a:rPr b="1" i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i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散风驱寒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dissolv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-118,7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-118,7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bf1"/>
              </a:solidFill>
              <a:latin typeface="Arial"/>
              <a:ea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90" name="Picture 4" descr="201451214432886"/>
          <p:cNvPicPr/>
          <p:nvPr/>
        </p:nvPicPr>
        <p:blipFill>
          <a:blip r:embed="rId1"/>
          <a:stretch/>
        </p:blipFill>
        <p:spPr>
          <a:xfrm>
            <a:off x="0" y="0"/>
            <a:ext cx="115570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522360" y="4724280"/>
            <a:ext cx="1058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国很多地方有端午节挂香囊的习俗，也是一种预防传染病的方法。自制端午香囊用到的中药有苍术、藿香、吴茱萸、艾叶、肉桂、砂仁、白芷，每味各两克，另外再加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克丁香。将这几味中药研细，然后放在布袋中，缝合好。可以佩戴在胸前、腰际或肚脐处，也可以把香囊挂在门口、室内或车内。这几味中药，中医认为有散风驱寒、健脾和胃、理气止痛、通九窍的功能，从而起到防病的作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6878520" y="619452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http://www.leawo.c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-118,7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-118,7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1155708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Picture3"/>
          <p:cNvPicPr/>
          <p:nvPr/>
        </p:nvPicPr>
        <p:blipFill>
          <a:blip r:embed="rId2"/>
          <a:stretch/>
        </p:blipFill>
        <p:spPr>
          <a:xfrm>
            <a:off x="0" y="836640"/>
            <a:ext cx="11574360" cy="36003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200" y="2133360"/>
            <a:ext cx="5915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宋体"/>
              </a:rPr>
              <a:t>谢谢欣赏</a:t>
            </a:r>
            <a:br>
              <a:rPr sz="6600"/>
            </a:br>
            <a:fld id="{B88BD7BB-FE63-49B8-AF00-FC6F76852225}" type="datetime"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26/7/29</a:t>
            </a:fld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2502000" y="620640"/>
            <a:ext cx="78264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現在時間  </a:t>
            </a:r>
            <a:fld id="{DEF5F7C7-56CA-475F-AC64-401D0739FC30}" type="datetime"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26/7/29</a:t>
            </a:fld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休息一下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138320" y="5516640"/>
            <a:ext cx="10418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9" descr="快乐健康"/>
          <p:cNvPicPr/>
          <p:nvPr/>
        </p:nvPicPr>
        <p:blipFill>
          <a:blip r:embed="rId3"/>
          <a:stretch/>
        </p:blipFill>
        <p:spPr>
          <a:xfrm>
            <a:off x="955800" y="4506840"/>
            <a:ext cx="4913280" cy="1177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挥手"/>
          <p:cNvPicPr/>
          <p:nvPr/>
        </p:nvPicPr>
        <p:blipFill>
          <a:blip r:embed="rId4"/>
          <a:stretch/>
        </p:blipFill>
        <p:spPr>
          <a:xfrm>
            <a:off x="7415280" y="2852640"/>
            <a:ext cx="3009960" cy="1905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再见拜拜"/>
          <p:cNvPicPr/>
          <p:nvPr/>
        </p:nvPicPr>
        <p:blipFill>
          <a:blip r:embed="rId5"/>
          <a:stretch/>
        </p:blipFill>
        <p:spPr>
          <a:xfrm>
            <a:off x="7962840" y="1484280"/>
            <a:ext cx="2166840" cy="95256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bf1"/>
              </a:solidFill>
              <a:latin typeface="Arial"/>
              <a:ea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50" name="Picture 5" descr="截图01"/>
          <p:cNvPicPr/>
          <p:nvPr/>
        </p:nvPicPr>
        <p:blipFill>
          <a:blip r:embed="rId1"/>
          <a:stretch/>
        </p:blipFill>
        <p:spPr>
          <a:xfrm>
            <a:off x="0" y="0"/>
            <a:ext cx="115570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449280" y="2781360"/>
            <a:ext cx="7921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在中国的传统节日中，端午节是一个重要的节日。在这几天，人们会在门口挂上菖蒲、蒿草、艾叶驱邪，喝雄黄酒、五加酒，吃粽子，挂香囊，以表达保持健康体魄的美好愿望。在现代人的生活方式里，端午节的一些古老习俗已经慢慢被摒弃，然而事实证明，我们的传统习俗蕴含着很多养生奥秘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-118,7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-118,7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bf1"/>
              </a:solidFill>
              <a:latin typeface="Arial"/>
              <a:ea typeface="宋体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0"/>
            <a:ext cx="11557080" cy="6858000"/>
            <a:chOff x="0" y="0"/>
            <a:chExt cx="11557080" cy="6858000"/>
          </a:xfrm>
        </p:grpSpPr>
        <p:pic>
          <p:nvPicPr>
            <p:cNvPr id="54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15570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 txBox="1"/>
            <p:nvPr/>
          </p:nvSpPr>
          <p:spPr>
            <a:xfrm>
              <a:off x="0" y="0"/>
              <a:ext cx="1155708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" name="Text Box 5"/>
          <p:cNvSpPr/>
          <p:nvPr/>
        </p:nvSpPr>
        <p:spPr>
          <a:xfrm>
            <a:off x="1817640" y="2852640"/>
            <a:ext cx="791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吃粽子</a:t>
            </a:r>
            <a:r>
              <a:rPr b="1" i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i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清热除烦　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-118,7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-118,7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0" y="0"/>
            <a:ext cx="11557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4915080" y="549360"/>
            <a:ext cx="63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中医认为，糯米具有益气健脾、开胃消食的作用。用来包裹粽子的粽叶更有讲究，北方大都用芦苇叶，南方多用竹叶或荷叶，这些叶子都有很好的药用功能。如：苇叶可以清热生津、除烦止渴；竹叶可以清热除烦、利尿排毒；荷叶能清热利湿、和胃宁神。总的来说，粽子有清热除烦、助脾开胃的作用，特别适合初夏食用。　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进食时须注意，制作粽子的原料糯米黏性较大，过量进食容易引起消化不良，所以不可贪食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-118,7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-118,7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bf1"/>
              </a:solidFill>
              <a:latin typeface="Arial"/>
              <a:ea typeface="宋体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20520"/>
            <a:ext cx="11557080" cy="6837480"/>
            <a:chOff x="0" y="20520"/>
            <a:chExt cx="11557080" cy="6837480"/>
          </a:xfrm>
        </p:grpSpPr>
        <p:pic>
          <p:nvPicPr>
            <p:cNvPr id="61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20520"/>
              <a:ext cx="11557080" cy="683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 txBox="1"/>
            <p:nvPr/>
          </p:nvSpPr>
          <p:spPr>
            <a:xfrm>
              <a:off x="0" y="20520"/>
              <a:ext cx="11557080" cy="6837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Text Box 5"/>
          <p:cNvSpPr/>
          <p:nvPr/>
        </p:nvSpPr>
        <p:spPr>
          <a:xfrm>
            <a:off x="3041640" y="2781360"/>
            <a:ext cx="760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艾叶菖蒲</a:t>
            </a:r>
            <a:r>
              <a:rPr b="1" i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i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驱毒除瘟</a:t>
            </a:r>
            <a:r>
              <a:rPr b="0" i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　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-118,7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-118,7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11557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809640" y="765000"/>
            <a:ext cx="1029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民谚说：“清明插柳，端午插艾。”在端午节，家家户户都要将菖蒲、艾条插于门楣，悬于堂中。艾叶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叫艾蒿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)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一味芳香化浊的中药，有较强的驱毒除瘟作用。现代研究表明，悬挂艾叶及燃烧艾叶的确有杀菌消毒、预防瘟疫流行的作用。艾叶、菖蒲还有驱蚊的作用，慢慢燃烧艾叶驱蚊效果更好。　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-118,7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-118,7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0"/>
            <a:ext cx="11557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809640" y="620640"/>
            <a:ext cx="101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代人已经很少在家门口挂艾叶、菖蒲等草本植物。对于这个问题，专家说，可以采取烟熏和喷气雾剂的方法来解决。普通家庭可以选择在端午前后把门窗紧闭，然后用菖蒲、艾叶、雄黄合剂烟熏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~4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时以上，这样可起到杀菌作用。另外，还可以到商店购买杀虫驱蚊的气雾剂来达到灭害虫的目的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-118,7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-118,7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7440" y="274320"/>
            <a:ext cx="1040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bf1"/>
              </a:solidFill>
              <a:latin typeface="Arial"/>
              <a:ea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77440" y="1600200"/>
            <a:ext cx="1040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70" name="Picture 4" descr="20120616152238938"/>
          <p:cNvPicPr/>
          <p:nvPr/>
        </p:nvPicPr>
        <p:blipFill>
          <a:blip r:embed="rId1"/>
          <a:stretch/>
        </p:blipFill>
        <p:spPr>
          <a:xfrm>
            <a:off x="0" y="-38160"/>
            <a:ext cx="11557080" cy="6896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2682720" y="3205080"/>
            <a:ext cx="825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涂雄黄酒</a:t>
            </a: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杀虫解毒　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7953120" y="6391440"/>
            <a:ext cx="29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http://www.leawo.c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-118,7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-118,7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11557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809640" y="760320"/>
            <a:ext cx="64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端午前后，我国南方很多地区都已步入梅雨季节，天气条件有利于蚊蝇、害虫的活动和繁殖。而雄黄是一味解毒、杀虫的中药，内含有毒的砷盐成分，害虫闻之食之即会中毒，人涂之可以避毒。也有很多人在端午节饮雄黄酒，但由于雄黄的主要成分是二硫化砷，遇热后可分解为毒性很强的砒霜，因此不建议内服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dissolv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-118,7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-118,7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5T06:38:51Z</dcterms:created>
  <dc:creator>joanna</dc:creator>
  <dc:description/>
  <dc:language>en-US</dc:language>
  <cp:lastModifiedBy>Sky123.Org</cp:lastModifiedBy>
  <dcterms:modified xsi:type="dcterms:W3CDTF">2015-06-04T01:50:43Z</dcterms:modified>
  <cp:revision>1</cp:revision>
  <dc:subject/>
  <dc:title>幻灯片 1</dc:title>
</cp:coreProperties>
</file>